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1239-3CD0-49B9-924E-1611C7CC5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230-61DB-42EA-80B6-DAB230DCB59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45D-C231-42B8-8450-8F85C8BC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1E3-55FF-496B-8B15-9BA104BF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D92E4-DE05-4900-AE78-8F9D1B06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F5D5F-264F-4C56-8D91-CD338788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27950-A230-417A-AE8B-4E70BC96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7CBEF-7AA9-4E3A-823E-79928CFC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30D02-3561-41E5-B6F1-1386CE5B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7D0E0-1ED6-4B97-A300-9A45E48D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19A33-A167-40F9-A7E0-8E018E00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23A53-DA16-4BDB-8B6B-958D436A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8FC6D-4BB9-4141-8BE9-4CE6D581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4E118-3728-433E-BD3E-8C75EFA9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EDE-4632-46B3-A8BD-85D3E86F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87672-BB40-4BB4-8FB5-BBE9AB71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1F5F5-492F-43C2-8274-96BD67BC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EB6D6-CE2F-462A-80F4-2C735D50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A158C-49AA-4677-B751-D7728205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B03C3-8E68-489C-A872-2610357B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E3E58-51AD-47E7-A8E8-EF36877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10282-531A-4BAB-BB3D-7F05A75B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2B995-96BA-470F-A5D8-74544743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9DD54-17FE-4C03-B560-694F2706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39F64-1498-4014-A476-203EE66E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133-C11A-4D80-95F4-327B2CC0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7F16C-C1C8-4300-8486-B0EFC85C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07C71-32F9-401A-823D-E8C34D01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735C0-954D-4557-BE39-9FE62436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A4F9C-6A4C-435A-A6B3-A883827C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9F09B-E60E-4074-80B3-7DAB1B31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E764A-010C-454D-B9F6-7CE469F5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B898B-9E26-4426-BC10-4D415C50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DE328-5676-4BAE-9F9C-C87403C7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436CB-6179-437E-9D85-9A0B4E62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DB520-8A69-47DE-B7B6-4051AE9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0E3E-56B3-4DDE-A6B0-74D20CB3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06407-4931-42E7-9F31-5D59F5FF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16CAB-D922-4426-95A1-8E8B82F9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4A650-6ACC-4CEC-B679-01518DEC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55630-2FCD-47E9-B7BB-9BFB3405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81160-B392-4692-84C9-5772C5E3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C1853-D03D-4651-951C-F19EF4F8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7D722-5730-4EB6-AFF3-01907D9B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AA281-9641-4444-8079-8B8B232F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7E174-AFD7-4179-B690-0955A2E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5F1A0-249C-4F9F-A680-274DF13C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A3DD-3BD6-4335-8222-F06ADE3E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A9B94-2783-4A15-8D35-04D38FE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3A5E8-CEC7-463C-9564-92C9831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10ED9-B80F-4D3F-A88B-ADEE5857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0F036-9480-49E4-BAAA-E879FF71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A9D25-FD3A-4124-A085-872B2776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E117-2E0C-447A-9891-00D96D1C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FB84-D35B-4D2B-8AE7-9212D9A1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37A9-149D-407C-BCE2-C7514B2A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1FBD-222F-4A55-AEC1-EB8A1947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1EFB-397E-48B3-88D9-909DB733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78F-3C0C-4877-899F-45F3B11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81AC-57AA-4915-9CEE-5CEE5B17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D453-61D6-4DB7-892A-7493B0A0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187E-3FA2-4DC8-894E-B4568284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3FB0-FFC1-43DA-8A88-82C89458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C641-CB36-43C0-ABF6-8DF33065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0802-5B00-490D-A5A4-0A37ED0C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22D5-8E1A-4A30-AE83-2E02231A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457A-1426-4B0D-840D-4489585D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A88F-318D-4E5D-9D73-6ACA9379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6A89-12D1-488F-A9E9-BDB14126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BEB-A069-4FB7-9688-BE11DD9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D831-6BEE-4AEF-9D11-EF7DCF19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2EE4-496A-43B7-9344-C936BC37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29F7-108D-459C-8404-8267D31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FFC54-D7D7-41FC-B785-1D0EFB5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1379-0E41-4E11-9A9E-DF89D036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4873-CD88-4E19-8C20-1CA2DA4E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1A229-3BA0-4782-AB73-FAF3E110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6385-87C2-4E5B-B827-B7C1D13B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67501-C91F-483F-A161-BF225339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3E89-D3A4-43CB-9785-AEA99F76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693-5D1A-44C3-8637-40EE4920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AB9CD-4E59-4622-82AD-418BF627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D72C-14DD-44DD-AE06-FE19F4EB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F361-CD8B-4859-9FFB-8AA2DC73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78DB-4C1F-4104-B393-E44D4D0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D129A-EFBE-4ABB-A917-97AC382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36BA-9A0E-4BEF-9CAC-5FCD5062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8EE3-4A12-46B9-9491-04231A9E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105F1-6D60-4145-997C-C83FD00A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0616-2292-4B70-A6A3-51483ABF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F8872-77E3-402B-9E23-05B256E7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718-8D5F-426E-82B9-866E8604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8F31-8FED-45F5-8DDA-386002F5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404F3-8E45-4F4E-9707-B857AD7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C179-1362-4BE1-AC2E-1140B6B1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2EFA8-9E9A-49C7-A176-1C0FFED7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25BED-123A-49E1-BA80-26D46DA6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1A85D-02CC-4E7B-A208-C3DB1960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FDBF-A471-44AF-85AF-3CC3DEB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6CFE8-E6A7-464F-9591-94E7B13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2357-C857-4CB2-9E0B-D104F917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71BB7-3449-46E0-A49E-6D575649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524-5108-4BD3-99BB-5C4D46E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1DB7-1E8D-48CC-8968-BCF5B15E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E2FAB-E4DE-401E-B08A-19EFFFA3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51A5C-D2F2-42CE-8999-76A0184C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D9B59-6BA1-4FF3-B2F9-8DD537D4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C5133-9E25-43D5-8350-AAB170DF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9BDF0-5907-4144-AD9B-B74367F3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1D880-6699-41CB-AC82-10681539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44922-08F2-4EB3-AA20-2BBF1D8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0411D-9D55-4791-A706-EA62A96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90F4-F73D-4E4E-9D9B-3FA6B2B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37E-618A-4B98-9DB4-D3537BB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F10FE-56D7-471B-8EA1-B67CAE2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08631-8840-4465-95E7-A57FEA7E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FC7D1-8BE1-4F96-BB4E-9E81C2DF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5AE4-4005-48C2-984C-EBD105E6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D3DAF-DDC9-431D-B574-56D72800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4208E-2664-4FDD-B143-5DCEC9B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D62A4-B44F-40FE-B510-72E747C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9B908-377A-41C9-8DA8-4DDA9070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656D1-D7DD-4C5A-B248-458E42F3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FF3EE-29A0-4845-B0A0-3FE8A97A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536-7B15-478E-A8A4-CDC58BE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0900A-5BCD-463A-A529-383865AC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2D494-FE74-489B-8BE5-3109578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42155-E808-44A5-B7DB-20A6CD0B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CD893-9FB2-45CF-BFAC-33677938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C924F-E7B6-45AB-8D39-99C6BBB5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AD740-A3E3-4F62-ADE3-B9EA4203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C623-ED08-4E71-8390-8F21EB8A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25DA4-ECAC-4C6B-9056-38091941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800C-D6DC-4079-A71B-6AC63CFF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A91F-B1E6-41B1-A136-42CD61D3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101-86AF-4BE0-A6E2-ADF5595C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94F2E-E2AD-40A5-B274-E4DDB29A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79B97-F1AF-4B96-9197-3955607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CACE-DD80-4A37-B69D-4AB1F173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1099E-050F-42F0-A778-B05795E2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BAA2E-D705-4238-A0EC-3BB49589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AFA86-2B3D-4B29-9547-EE3D1885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9D7DD-8EED-435D-BB54-952F5803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C1A51-BCD4-43A9-9CC8-79F44D5A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B2B79-5D44-4EB8-B7D9-080E59A3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B30AA-54A0-46FE-88F2-4F0BA2B3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538E-4433-4D5B-85BF-1AB072999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A600-8265-4006-8711-504FC0C52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432F-D9F5-4092-8497-FA0E3C34B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54F1-5537-44A9-AB2E-FBC24375A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F5A-6272-4901-B3F6-EFCB784DA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1E62-1BF8-4E50-BD38-13D4A8F03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F6F-E189-445E-B17D-61AE116F9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38F2-2AA6-42EB-98EC-FE311168B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E3F4-D556-40DE-B5CF-09B8421B8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359D-8941-4534-971F-C67D1B11A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85F1-6FD2-454F-8D81-B8B14806B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A84A-CC51-4A89-82C3-BCE3A4D3C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AutoShape 90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AutoShape 91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6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AutoShape 92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1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AutoShape 101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AutoShape 102">
            <a:hlinkClick r:id="rId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AutoShape 103">
            <a:hlinkClick r:id="rId7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AutoShape 104">
            <a:hlinkClick r:id="rId8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7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AutoShape 105"/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2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AutoShape 106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AutoShape 107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AutoShape 108"/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3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8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3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4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9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4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5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5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I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0" y="380520"/>
            <a:ext cx="9372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3" name="Picture 8" descr="C:\Documents and Settings\rebecca\My Documents\My Pictures\dimeback.jpg"/>
          <p:cNvPicPr/>
          <p:nvPr/>
        </p:nvPicPr>
        <p:blipFill>
          <a:blip r:embed="rId1"/>
          <a:stretch/>
        </p:blipFill>
        <p:spPr>
          <a:xfrm>
            <a:off x="2971800" y="2911320"/>
            <a:ext cx="3809880" cy="369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838080" y="28346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dime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0" y="5328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3275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685800" y="838080"/>
            <a:ext cx="784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0" name="Picture 13" descr="C:\Documents and Settings\rebecca\My Documents\My Pictures\quarter back.jpg"/>
          <p:cNvPicPr/>
          <p:nvPr/>
        </p:nvPicPr>
        <p:blipFill>
          <a:blip r:embed="rId1"/>
          <a:stretch/>
        </p:blipFill>
        <p:spPr>
          <a:xfrm>
            <a:off x="2666880" y="28954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1447920" y="283284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quart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4349880" y="181620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051"/>
          <p:cNvSpPr/>
          <p:nvPr/>
        </p:nvSpPr>
        <p:spPr>
          <a:xfrm>
            <a:off x="0" y="22860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5" name="Picture 2052" descr="C:\Documents and Settings\rebecca\My Documents\My Pictures\nickel back.jpg"/>
          <p:cNvPicPr/>
          <p:nvPr/>
        </p:nvPicPr>
        <p:blipFill>
          <a:blip r:embed="rId1"/>
          <a:stretch/>
        </p:blipFill>
        <p:spPr>
          <a:xfrm>
            <a:off x="2590920" y="2895480"/>
            <a:ext cx="3962160" cy="363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447920" y="283608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nickel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762120" y="2649600"/>
            <a:ext cx="76197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228600" y="-228960"/>
            <a:ext cx="8915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403880" y="29559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533520" y="990720"/>
            <a:ext cx="807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3" name="Picture 12" descr="C:\Documents and Settings\rebecca\My Documents\My Pictures\pennyback.jpg"/>
          <p:cNvPicPr/>
          <p:nvPr/>
        </p:nvPicPr>
        <p:blipFill>
          <a:blip r:embed="rId1"/>
          <a:stretch/>
        </p:blipFill>
        <p:spPr>
          <a:xfrm>
            <a:off x="3276720" y="296244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0" y="266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penny.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0" y="456480"/>
            <a:ext cx="883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a dime worth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5561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609480" y="380880"/>
            <a:ext cx="7925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9" name="Picture 9" descr="C:\Documents and Settings\rebecca\My Documents\My Pictures\dime.jpg"/>
          <p:cNvPicPr/>
          <p:nvPr/>
        </p:nvPicPr>
        <p:blipFill>
          <a:blip r:embed="rId1"/>
          <a:stretch/>
        </p:blipFill>
        <p:spPr>
          <a:xfrm>
            <a:off x="2895480" y="3276720"/>
            <a:ext cx="311472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447920" y="2225160"/>
            <a:ext cx="624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10 cents or 10 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914400" y="2776680"/>
            <a:ext cx="7543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371600" y="5328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is  coin called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1" name="Picture 7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2666880" y="3124080"/>
            <a:ext cx="3657600" cy="351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838080" y="-153000"/>
            <a:ext cx="75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a quarter worth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457200" y="380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7" name="Picture 10" descr="C:\Documents and Settings\rebecca\My Documents\My Pictures\quarter.jpg"/>
          <p:cNvPicPr/>
          <p:nvPr/>
        </p:nvPicPr>
        <p:blipFill>
          <a:blip r:embed="rId1"/>
          <a:stretch/>
        </p:blipFill>
        <p:spPr>
          <a:xfrm>
            <a:off x="2895480" y="3048120"/>
            <a:ext cx="3355920" cy="34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3429000" y="33526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1752480" y="1996560"/>
            <a:ext cx="583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25 cents or 25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838080" y="4564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a nickel worth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3" name="Picture 4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2590920" y="2819520"/>
            <a:ext cx="3809880" cy="373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523880" y="2179080"/>
            <a:ext cx="6248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5 cents or 5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4438800" y="2833560"/>
            <a:ext cx="183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762120" y="-22932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a penny worth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9" name="Picture 4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2819520" y="2971800"/>
            <a:ext cx="3762360" cy="361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447920" y="283464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1 cent or 1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4478400" y="2955960"/>
            <a:ext cx="183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914400" y="456480"/>
            <a:ext cx="723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color is a dime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04" name="Picture 3" descr="C:\Documents and Settings\rebecca\My Documents\My Pictures\dime.jpg"/>
          <p:cNvPicPr/>
          <p:nvPr/>
        </p:nvPicPr>
        <p:blipFill>
          <a:blip r:embed="rId1"/>
          <a:stretch/>
        </p:blipFill>
        <p:spPr>
          <a:xfrm>
            <a:off x="2590920" y="2895480"/>
            <a:ext cx="364788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1447920" y="2835360"/>
            <a:ext cx="6248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77640" y="2772720"/>
            <a:ext cx="300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Silv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066680" y="60876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color is a quarter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0" name="Picture 4" descr="C:\Documents and Settings\rebecca\My Documents\My Pictures\quarter.jpg"/>
          <p:cNvPicPr/>
          <p:nvPr/>
        </p:nvPicPr>
        <p:blipFill>
          <a:blip r:embed="rId1"/>
          <a:stretch/>
        </p:blipFill>
        <p:spPr>
          <a:xfrm>
            <a:off x="2895480" y="3200400"/>
            <a:ext cx="3206880" cy="32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283464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silv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1066680" y="2383920"/>
            <a:ext cx="76359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447920" y="31114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057400" y="23616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Penny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143000" y="60876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color is a penny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5" name="Picture 3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3048120" y="3124080"/>
            <a:ext cx="3457440" cy="3319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609480" y="259020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Copper brow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447920" y="532800"/>
            <a:ext cx="624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color is a nickel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0" name="Picture 4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2666880" y="3048120"/>
            <a:ext cx="361980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447920" y="283284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silv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04920" y="2987640"/>
            <a:ext cx="8342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0" y="227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president is on the penny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5" name="Picture 4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2362320" y="2819520"/>
            <a:ext cx="3914640" cy="375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1066680" y="210420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braham Lincol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304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president is on the nickel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1" name="Picture 4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2362320" y="2743200"/>
            <a:ext cx="392436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609480" y="2012400"/>
            <a:ext cx="817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Thomas Jefferso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112068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0" y="22860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president is on the quarter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7" name="Picture 5" descr="C:\Documents and Settings\rebecca\My Documents\My Pictures\quarter.jpg"/>
          <p:cNvPicPr/>
          <p:nvPr/>
        </p:nvPicPr>
        <p:blipFill>
          <a:blip r:embed="rId1"/>
          <a:stretch/>
        </p:blipFill>
        <p:spPr>
          <a:xfrm>
            <a:off x="2743200" y="2743200"/>
            <a:ext cx="36640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990720" y="2012400"/>
            <a:ext cx="725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George Washingto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85800" y="30420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is coin called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9" name="Picture 8" descr="C:\Documents and Settings\rebecca\My Documents\My Pictures\dime.jpg"/>
          <p:cNvPicPr/>
          <p:nvPr/>
        </p:nvPicPr>
        <p:blipFill>
          <a:blip r:embed="rId1"/>
          <a:stretch/>
        </p:blipFill>
        <p:spPr>
          <a:xfrm>
            <a:off x="2286000" y="2932200"/>
            <a:ext cx="3962520" cy="392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0" y="22788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president is on the dime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3" name="Picture 4" descr="C:\Documents and Settings\rebecca\My Documents\My Pictures\dime.jpg"/>
          <p:cNvPicPr/>
          <p:nvPr/>
        </p:nvPicPr>
        <p:blipFill>
          <a:blip r:embed="rId1"/>
          <a:stretch/>
        </p:blipFill>
        <p:spPr>
          <a:xfrm>
            <a:off x="2286000" y="2666880"/>
            <a:ext cx="3952800" cy="3916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447920" y="2225160"/>
            <a:ext cx="624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Franklin Roosevelt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914400" y="2927520"/>
            <a:ext cx="715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0" y="1137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any pennies are equal to a nickel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8" name="Picture 3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0" y="4114800"/>
            <a:ext cx="1981080" cy="190188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4"/>
          <p:cNvSpPr/>
          <p:nvPr/>
        </p:nvSpPr>
        <p:spPr>
          <a:xfrm>
            <a:off x="2057400" y="43434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? = 1 (5¢)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0" name="Picture 5" descr="C:\Documents and Settings\rebecca\My Documents\My Pictures\nickel.jpg"/>
          <p:cNvPicPr/>
          <p:nvPr/>
        </p:nvPicPr>
        <p:blipFill>
          <a:blip r:embed="rId2"/>
          <a:stretch/>
        </p:blipFill>
        <p:spPr>
          <a:xfrm>
            <a:off x="6934320" y="4114800"/>
            <a:ext cx="198108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609480" y="532800"/>
            <a:ext cx="78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5 pennies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4" name="Picture 6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1219320" y="5257800"/>
            <a:ext cx="1428480" cy="1371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C:\Documents and Settings\rebecca\My Documents\My Pictures\penny.jpg"/>
          <p:cNvPicPr/>
          <p:nvPr/>
        </p:nvPicPr>
        <p:blipFill>
          <a:blip r:embed="rId2"/>
          <a:stretch/>
        </p:blipFill>
        <p:spPr>
          <a:xfrm>
            <a:off x="1828800" y="36576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C:\Documents and Settings\rebecca\My Documents\My Pictures\penny.jpg"/>
          <p:cNvPicPr/>
          <p:nvPr/>
        </p:nvPicPr>
        <p:blipFill>
          <a:blip r:embed="rId3"/>
          <a:stretch/>
        </p:blipFill>
        <p:spPr>
          <a:xfrm>
            <a:off x="304920" y="3657600"/>
            <a:ext cx="1428480" cy="13716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9" descr="C:\Documents and Settings\rebecca\My Documents\My Pictures\penny.jpg"/>
          <p:cNvPicPr/>
          <p:nvPr/>
        </p:nvPicPr>
        <p:blipFill>
          <a:blip r:embed="rId4"/>
          <a:stretch/>
        </p:blipFill>
        <p:spPr>
          <a:xfrm>
            <a:off x="1828800" y="2133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0" descr="C:\Documents and Settings\rebecca\My Documents\My Pictures\penny.jpg"/>
          <p:cNvPicPr/>
          <p:nvPr/>
        </p:nvPicPr>
        <p:blipFill>
          <a:blip r:embed="rId5"/>
          <a:stretch/>
        </p:blipFill>
        <p:spPr>
          <a:xfrm>
            <a:off x="228600" y="213372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1"/>
          <p:cNvSpPr/>
          <p:nvPr/>
        </p:nvSpPr>
        <p:spPr>
          <a:xfrm>
            <a:off x="3733920" y="29718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0" name="Picture 12" descr="C:\Documents and Settings\rebecca\My Documents\My Pictures\nickel.jpg"/>
          <p:cNvPicPr/>
          <p:nvPr/>
        </p:nvPicPr>
        <p:blipFill>
          <a:blip r:embed="rId6"/>
          <a:stretch/>
        </p:blipFill>
        <p:spPr>
          <a:xfrm>
            <a:off x="6019920" y="2819520"/>
            <a:ext cx="1828800" cy="179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1066680" y="-550872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any pennies are equal to a dime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4" name="Picture 6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533520" y="4495680"/>
            <a:ext cx="1428480" cy="13716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7"/>
          <p:cNvSpPr/>
          <p:nvPr/>
        </p:nvSpPr>
        <p:spPr>
          <a:xfrm>
            <a:off x="2057400" y="46483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? = 1 (10¢)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6" name="Picture 8" descr="C:\Documents and Settings\rebecca\My Documents\My Pictures\dime.jpg"/>
          <p:cNvPicPr/>
          <p:nvPr/>
        </p:nvPicPr>
        <p:blipFill>
          <a:blip r:embed="rId2"/>
          <a:stretch/>
        </p:blipFill>
        <p:spPr>
          <a:xfrm>
            <a:off x="7467480" y="4648320"/>
            <a:ext cx="12002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-190512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1447920" y="228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10 pennies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1" name="Picture 8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3124080" y="34290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9" descr="C:\Documents and Settings\rebecca\My Documents\My Pictures\penny.jpg"/>
          <p:cNvPicPr/>
          <p:nvPr/>
        </p:nvPicPr>
        <p:blipFill>
          <a:blip r:embed="rId2"/>
          <a:stretch/>
        </p:blipFill>
        <p:spPr>
          <a:xfrm>
            <a:off x="3124080" y="51055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0" descr="C:\Documents and Settings\rebecca\My Documents\My Pictures\penny.jpg"/>
          <p:cNvPicPr/>
          <p:nvPr/>
        </p:nvPicPr>
        <p:blipFill>
          <a:blip r:embed="rId3"/>
          <a:stretch/>
        </p:blipFill>
        <p:spPr>
          <a:xfrm>
            <a:off x="3124080" y="19051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1" descr="C:\Documents and Settings\rebecca\My Documents\My Pictures\penny.jpg"/>
          <p:cNvPicPr/>
          <p:nvPr/>
        </p:nvPicPr>
        <p:blipFill>
          <a:blip r:embed="rId4"/>
          <a:stretch/>
        </p:blipFill>
        <p:spPr>
          <a:xfrm>
            <a:off x="1523880" y="50292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2" descr="C:\Documents and Settings\rebecca\My Documents\My Pictures\penny.jpg"/>
          <p:cNvPicPr/>
          <p:nvPr/>
        </p:nvPicPr>
        <p:blipFill>
          <a:blip r:embed="rId5"/>
          <a:stretch/>
        </p:blipFill>
        <p:spPr>
          <a:xfrm>
            <a:off x="1600200" y="34290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3" descr="C:\Documents and Settings\rebecca\My Documents\My Pictures\penny.jpg"/>
          <p:cNvPicPr/>
          <p:nvPr/>
        </p:nvPicPr>
        <p:blipFill>
          <a:blip r:embed="rId6"/>
          <a:stretch/>
        </p:blipFill>
        <p:spPr>
          <a:xfrm>
            <a:off x="1600200" y="19051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4" descr="C:\Documents and Settings\rebecca\My Documents\My Pictures\penny.jpg"/>
          <p:cNvPicPr/>
          <p:nvPr/>
        </p:nvPicPr>
        <p:blipFill>
          <a:blip r:embed="rId7"/>
          <a:stretch/>
        </p:blipFill>
        <p:spPr>
          <a:xfrm>
            <a:off x="0" y="495288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5" descr="C:\Documents and Settings\rebecca\My Documents\My Pictures\penny.jpg"/>
          <p:cNvPicPr/>
          <p:nvPr/>
        </p:nvPicPr>
        <p:blipFill>
          <a:blip r:embed="rId8"/>
          <a:stretch/>
        </p:blipFill>
        <p:spPr>
          <a:xfrm>
            <a:off x="0" y="335268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6" descr="C:\Documents and Settings\rebecca\My Documents\My Pictures\penny.jpg"/>
          <p:cNvPicPr/>
          <p:nvPr/>
        </p:nvPicPr>
        <p:blipFill>
          <a:blip r:embed="rId9"/>
          <a:stretch/>
        </p:blipFill>
        <p:spPr>
          <a:xfrm>
            <a:off x="0" y="19051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7" descr="C:\Documents and Settings\rebecca\My Documents\My Pictures\penny.jpg"/>
          <p:cNvPicPr/>
          <p:nvPr/>
        </p:nvPicPr>
        <p:blipFill>
          <a:blip r:embed="rId10"/>
          <a:stretch/>
        </p:blipFill>
        <p:spPr>
          <a:xfrm>
            <a:off x="0" y="38088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18"/>
          <p:cNvSpPr/>
          <p:nvPr/>
        </p:nvSpPr>
        <p:spPr>
          <a:xfrm>
            <a:off x="5181480" y="33526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2" name="Picture 19" descr="C:\Documents and Settings\rebecca\My Documents\My Pictures\dime.jpg"/>
          <p:cNvPicPr/>
          <p:nvPr/>
        </p:nvPicPr>
        <p:blipFill>
          <a:blip r:embed="rId11"/>
          <a:stretch/>
        </p:blipFill>
        <p:spPr>
          <a:xfrm>
            <a:off x="6781680" y="3200400"/>
            <a:ext cx="1676520" cy="1660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990720" y="2895480"/>
            <a:ext cx="7086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228600" y="304920"/>
            <a:ext cx="853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any nickels equal a dime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6" name="Picture 6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0" y="4495680"/>
            <a:ext cx="1981080" cy="194328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7"/>
          <p:cNvSpPr/>
          <p:nvPr/>
        </p:nvSpPr>
        <p:spPr>
          <a:xfrm>
            <a:off x="1828800" y="480060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? = 1 (10¢)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8" name="Picture 8" descr="C:\Documents and Settings\rebecca\My Documents\My Pictures\dime.jpg"/>
          <p:cNvPicPr/>
          <p:nvPr/>
        </p:nvPicPr>
        <p:blipFill>
          <a:blip r:embed="rId2"/>
          <a:stretch/>
        </p:blipFill>
        <p:spPr>
          <a:xfrm>
            <a:off x="7238880" y="4495680"/>
            <a:ext cx="1905120" cy="1887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457200" y="144792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676520" y="2286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2 nickels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2" name="Picture 5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762120" y="4267080"/>
            <a:ext cx="2209680" cy="21672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" descr="C:\Documents and Settings\rebecca\My Documents\My Pictures\nickel.jpg"/>
          <p:cNvPicPr/>
          <p:nvPr/>
        </p:nvPicPr>
        <p:blipFill>
          <a:blip r:embed="rId2"/>
          <a:stretch/>
        </p:blipFill>
        <p:spPr>
          <a:xfrm>
            <a:off x="762120" y="1905120"/>
            <a:ext cx="2209680" cy="216684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7"/>
          <p:cNvSpPr/>
          <p:nvPr/>
        </p:nvSpPr>
        <p:spPr>
          <a:xfrm>
            <a:off x="3505320" y="266688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5" name="Picture 8" descr="C:\Documents and Settings\rebecca\My Documents\My Pictures\dime.jpg"/>
          <p:cNvPicPr/>
          <p:nvPr/>
        </p:nvPicPr>
        <p:blipFill>
          <a:blip r:embed="rId3"/>
          <a:stretch/>
        </p:blipFill>
        <p:spPr>
          <a:xfrm>
            <a:off x="5562720" y="2286000"/>
            <a:ext cx="236196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1066680" y="2927520"/>
            <a:ext cx="70866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0" y="0"/>
            <a:ext cx="952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this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9" name="Picture 7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4952880" y="30481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C:\Documents and Settings\rebecca\My Documents\My Pictures\penny.jpg"/>
          <p:cNvPicPr/>
          <p:nvPr/>
        </p:nvPicPr>
        <p:blipFill>
          <a:blip r:embed="rId2"/>
          <a:stretch/>
        </p:blipFill>
        <p:spPr>
          <a:xfrm>
            <a:off x="2971800" y="48769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9" descr="C:\Documents and Settings\rebecca\My Documents\My Pictures\penny.jpg"/>
          <p:cNvPicPr/>
          <p:nvPr/>
        </p:nvPicPr>
        <p:blipFill>
          <a:blip r:embed="rId3"/>
          <a:stretch/>
        </p:blipFill>
        <p:spPr>
          <a:xfrm>
            <a:off x="2895480" y="3276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0" descr="C:\Documents and Settings\rebecca\My Documents\My Pictures\penny.jpg"/>
          <p:cNvPicPr/>
          <p:nvPr/>
        </p:nvPicPr>
        <p:blipFill>
          <a:blip r:embed="rId4"/>
          <a:stretch/>
        </p:blipFill>
        <p:spPr>
          <a:xfrm>
            <a:off x="2819520" y="1523880"/>
            <a:ext cx="1428480" cy="1371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1" descr="C:\Documents and Settings\rebecca\My Documents\My Pictures\penny.jpg"/>
          <p:cNvPicPr/>
          <p:nvPr/>
        </p:nvPicPr>
        <p:blipFill>
          <a:blip r:embed="rId5"/>
          <a:stretch/>
        </p:blipFill>
        <p:spPr>
          <a:xfrm>
            <a:off x="838080" y="495288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C:\Documents and Settings\rebecca\My Documents\My Pictures\penny.jpg"/>
          <p:cNvPicPr/>
          <p:nvPr/>
        </p:nvPicPr>
        <p:blipFill>
          <a:blip r:embed="rId6"/>
          <a:stretch/>
        </p:blipFill>
        <p:spPr>
          <a:xfrm>
            <a:off x="762120" y="3276720"/>
            <a:ext cx="1428480" cy="13716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3" descr="C:\Documents and Settings\rebecca\My Documents\My Pictures\penny.jpg"/>
          <p:cNvPicPr/>
          <p:nvPr/>
        </p:nvPicPr>
        <p:blipFill>
          <a:blip r:embed="rId7"/>
          <a:stretch/>
        </p:blipFill>
        <p:spPr>
          <a:xfrm>
            <a:off x="762120" y="1523880"/>
            <a:ext cx="142848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219320" y="2560680"/>
            <a:ext cx="6324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1905120" y="213372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7 cents or 7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143000" y="283464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dime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47920" y="3033720"/>
            <a:ext cx="624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this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13" name="Picture 5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1143000" y="2514600"/>
            <a:ext cx="1981080" cy="19432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C:\Documents and Settings\rebecca\My Documents\My Pictures\penny.jpg"/>
          <p:cNvPicPr/>
          <p:nvPr/>
        </p:nvPicPr>
        <p:blipFill>
          <a:blip r:embed="rId2"/>
          <a:stretch/>
        </p:blipFill>
        <p:spPr>
          <a:xfrm>
            <a:off x="3581280" y="2514600"/>
            <a:ext cx="205740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2286000" y="838080"/>
            <a:ext cx="42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6 cents or 6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0" y="914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4" name="Picture 8" descr="C:\Documents and Settings\rebecca\My Documents\My Pictures\quarter.jpg"/>
          <p:cNvPicPr/>
          <p:nvPr/>
        </p:nvPicPr>
        <p:blipFill>
          <a:blip r:embed="rId1"/>
          <a:stretch/>
        </p:blipFill>
        <p:spPr>
          <a:xfrm>
            <a:off x="2895480" y="3514680"/>
            <a:ext cx="328140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533520" y="28360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quart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228600" y="-152640"/>
            <a:ext cx="8915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9" name="Picture 7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3124080" y="3024360"/>
            <a:ext cx="3581640" cy="351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838080" y="28663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nickel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; Eleanor Savko</dc:creator>
  <dc:description/>
  <dc:language>en-US</dc:language>
  <cp:lastModifiedBy>Help Desk</cp:lastModifiedBy>
  <dcterms:modified xsi:type="dcterms:W3CDTF">2010-03-12T17:48:45Z</dcterms:modified>
  <cp:revision>68</cp:revision>
  <dc:subject>Math 5A</dc:subject>
  <dc:title>Math Jeopardy</dc:title>
</cp:coreProperties>
</file>